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 id="268" r:id="rId76"/>
    <p:sldId id="26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slide" Target="slides/slide13.xml"/><Relationship Id="rId77" Type="http://schemas.openxmlformats.org/officeDocument/2006/relationships/slide" Target="slides/slide1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3" name="PlaceHolder 2"/>
          <p:cNvSpPr>
            <a:spLocks noGrp="1"/>
          </p:cNvSpPr>
          <p:nvPr>
            <p:ph type="dt" idx="18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5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6" name="PlaceHolder 5"/>
          <p:cNvSpPr>
            <a:spLocks noGrp="1"/>
          </p:cNvSpPr>
          <p:nvPr>
            <p:ph type="ftr" idx="18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7" name="PlaceHolder 6"/>
          <p:cNvSpPr>
            <a:spLocks noGrp="1"/>
          </p:cNvSpPr>
          <p:nvPr>
            <p:ph type="sldNum" idx="18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8A64-C653-464C-A373-E5E9A23FAC7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143000" y="685800"/>
            <a:ext cx="4572000" cy="3429000"/>
          </a:xfrm>
          <a:prstGeom prst="rect">
            <a:avLst/>
          </a:prstGeom>
          <a:ln w="0">
            <a:noFill/>
          </a:ln>
        </p:spPr>
      </p:sp>
      <p:sp>
        <p:nvSpPr>
          <p:cNvPr id="2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49CB-39D2-4393-8A07-225F9B000554}"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143000" y="685800"/>
            <a:ext cx="4572000" cy="3429000"/>
          </a:xfrm>
          <a:prstGeom prst="rect">
            <a:avLst/>
          </a:prstGeom>
          <a:ln w="0">
            <a:noFill/>
          </a:ln>
        </p:spPr>
      </p:sp>
      <p:sp>
        <p:nvSpPr>
          <p:cNvPr id="2593"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Gateway net operational cost 65 cents out of $2.20 or $4.40. </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tell but appears could be well on track ($17.5 million by Dec 2011) to raise $158 million towards $356 million cost – I note that in 2011 over $700,000 in fines written off and 5 people owed nearly $10,000 between them!</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rrowing $158M of the total $372.5M construction cost, meant the Northern Gateway Road was built ten years earlier than it would have been under traditional funding method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harges went up in March 2012 NZTA said that the increases are regrettable but necessary to ensure that the toll road remains viable and on track to repay its debt within 35 years. So risk of charges increasing and worsening equity effects.</a:t>
            </a:r>
            <a:endParaRPr b="0" lang="en-US" sz="1200" spc="-1" strike="noStrike">
              <a:solidFill>
                <a:srgbClr val="000000"/>
              </a:solidFill>
              <a:latin typeface="Calibri"/>
            </a:endParaRPr>
          </a:p>
        </p:txBody>
      </p:sp>
      <p:sp>
        <p:nvSpPr>
          <p:cNvPr id="2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54C4-E5FB-405A-9A99-8452C0230FFF}"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143000" y="685800"/>
            <a:ext cx="4572000" cy="3429000"/>
          </a:xfrm>
          <a:prstGeom prst="rect">
            <a:avLst/>
          </a:prstGeom>
          <a:ln w="0">
            <a:noFill/>
          </a:ln>
        </p:spPr>
      </p:sp>
      <p:sp>
        <p:nvSpPr>
          <p:cNvPr id="2596"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 have not carried you with my argument against more extensive charging, then I would argue that some options are better than others and that there  are things that can be done to offset some of the equity concern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mptions and revenue recycling included targeted redistribution.</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s could be exempt or have a reduced rate.</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ote that some of the positive responses in Auckland were to survey questions that were heavily loaded – for instance – would you support user charges that lead to more public transport and reduced congestion? This does in my view bind decision makers towards a targeted redistribution model.</a:t>
            </a:r>
            <a:endParaRPr b="0" lang="en-US" sz="12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1B29-7648-4A39-AEF9-9DEC2CCCFC11}"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143000" y="685800"/>
            <a:ext cx="4572000" cy="3429000"/>
          </a:xfrm>
          <a:prstGeom prst="rect">
            <a:avLst/>
          </a:prstGeom>
          <a:ln w="0">
            <a:noFill/>
          </a:ln>
        </p:spPr>
      </p:sp>
      <p:sp>
        <p:nvSpPr>
          <p:cNvPr id="2599"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ternatives to charging and in many respect they are the obvious one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ere is debt, there are possible options on NZSF Fund Investment Vehicles or other forms of development funds. I note that a report last month from the OECD on large pension funds and long term capital investment and discussion in a recent </a:t>
            </a:r>
            <a:r>
              <a:rPr b="0" i="1" lang="en-US" sz="1200" spc="-1" strike="noStrike">
                <a:solidFill>
                  <a:srgbClr val="000000"/>
                </a:solidFill>
                <a:latin typeface="Calibri"/>
              </a:rPr>
              <a:t>Economist </a:t>
            </a:r>
            <a:r>
              <a:rPr b="0" lang="en-US" sz="1200" spc="-1" strike="noStrike">
                <a:solidFill>
                  <a:srgbClr val="000000"/>
                </a:solidFill>
                <a:latin typeface="Calibri"/>
              </a:rPr>
              <a:t>discussed how much greater use could be made of pension funds linked to development funds. Of course this is not the same as direct public debt.</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argue that we should not use charging to get dubious projects over the line. If the public benefit is low then don’t proceed. If a major rationale for Transmission Gully is that it is a lifeline should we need it on a long term basis then accept that we all pay for that lifeline in the wider public interest. But I also note that some argue cannot use tolls for the Gully project as it would be $15 a trip as patronage not there!</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here are wider policy considerations on housing, environmental impacts and so forth that count against major infrastructural projects that get the go ahead because of charging.</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 instance petrol tax was used increasingly to pay for improved public transport then could be part of a more equitable approach but it is difficult as in essence the equity issues are across both low income people in general and low income car users.</a:t>
            </a:r>
            <a:endParaRPr b="0" lang="en-US" sz="1200" spc="-1" strike="noStrike">
              <a:solidFill>
                <a:srgbClr val="000000"/>
              </a:solidFill>
              <a:latin typeface="Calibri"/>
            </a:endParaRPr>
          </a:p>
        </p:txBody>
      </p:sp>
      <p:sp>
        <p:nvSpPr>
          <p:cNvPr id="2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82F1-6ECF-484F-8FBC-BEB6CE259258}"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143000" y="685800"/>
            <a:ext cx="4572000" cy="3429000"/>
          </a:xfrm>
          <a:prstGeom prst="rect">
            <a:avLst/>
          </a:prstGeom>
          <a:ln w="0">
            <a:noFill/>
          </a:ln>
        </p:spPr>
      </p:sp>
      <p:sp>
        <p:nvSpPr>
          <p:cNvPr id="260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in arguments for charging is to reduce conges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hose who are deterred by cost look for other options.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respect the argument that cost can act as a deterrent and that charges or taxes can impact on behaviour including cigarette smoking and so forth.</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re are many risks with relying on price mechanisms – for instance the difficulties seen on emission trading as a mechanism to reduce emissions of greenhouse gases. So I am not myopic about such measures – and consider that regulation can be a better option (not so sure I would go back to carless days howev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and management option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at the argument to provide more public transport to reduce congestion carries risks that as congestion reduces, people come back to driving again and nothing changes. However I do believe that more public transport is a hugely significant measur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s – more freight by rail or sea for exampl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7BB9-9EC7-47BE-97EC-19CCBE3894D8}"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sldImg"/>
          </p:nvPr>
        </p:nvSpPr>
        <p:spPr>
          <a:xfrm>
            <a:off x="1143000" y="685800"/>
            <a:ext cx="4572000" cy="3429000"/>
          </a:xfrm>
          <a:prstGeom prst="rect">
            <a:avLst/>
          </a:prstGeom>
          <a:ln w="0">
            <a:noFill/>
          </a:ln>
        </p:spPr>
      </p:sp>
      <p:sp>
        <p:nvSpPr>
          <p:cNvPr id="2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61FC-D5C5-4003-ACA5-59253646FF19}"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sldImg"/>
          </p:nvPr>
        </p:nvSpPr>
        <p:spPr>
          <a:xfrm>
            <a:off x="1143000" y="685800"/>
            <a:ext cx="4572000" cy="3429000"/>
          </a:xfrm>
          <a:prstGeom prst="rect">
            <a:avLst/>
          </a:prstGeom>
          <a:ln w="0">
            <a:noFill/>
          </a:ln>
        </p:spPr>
      </p:sp>
      <p:sp>
        <p:nvSpPr>
          <p:cNvPr id="2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urpose of this debate I have focused on transport infrastructure rather than water, sewage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main argumen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nfrastructure project cannot meet a public interest test then it should not proce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ty  issues with charging are significa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t is possible to have (say) tolls without a private sector partner, there are risks that charging options may skew decision-making on infrastructure projects, and that major implementation risks occur. In most countries with toll roads the World Bank finds that the private sector has been heavily involv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my arguments are not successful I suggest some mitig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lso propose alternatives both in respect of financial and congestion issu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C909-B0AC-464F-A6BD-3527FCB9095E}"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 infrastructure is hugely important for long term economic and social development.</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ccept that agglomeration can underpin higher productivity and economies of scale then major public investment has very significant positive externalities. </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because of non-excludability, non rival.</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ing undermines this rationale.</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tuation we face is due to historic failure to invest and a bias towards small government and low rates – to an extent…</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lso argue that we should not take a user approach to public infrastructure. These are collective goods where people derive collective benefits and to single out user rates on specific aspects of infrastructure rather than have a ‘swings and roundabouts’ approach undermines the public dimension. Obviously I run the risk of carrying that too far and have multiples tragedies of the common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debate in a context where this Government says it will sell equity in public strategic assets in order to fund schools and hospitals while the DomPost said in weekend that Chorus should be publicly owned.</a:t>
            </a:r>
            <a:endParaRPr b="0" lang="en-US" sz="1200" spc="-1" strike="noStrike">
              <a:solidFill>
                <a:srgbClr val="000000"/>
              </a:solidFill>
              <a:latin typeface="Calibri"/>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2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9247-1547-4FA1-B07F-4D4E31E5A152}"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sldImg"/>
          </p:nvPr>
        </p:nvSpPr>
        <p:spPr>
          <a:xfrm>
            <a:off x="1143000" y="685800"/>
            <a:ext cx="4572000" cy="3429000"/>
          </a:xfrm>
          <a:prstGeom prst="rect">
            <a:avLst/>
          </a:prstGeom>
          <a:ln w="0">
            <a:noFill/>
          </a:ln>
        </p:spPr>
      </p:sp>
      <p:sp>
        <p:nvSpPr>
          <p:cNvPr id="257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charging option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already have charging now.</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levies can be used to reflect higher property values and business benefits but as Productivity Commission noted also impact on housing affordability.</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ckland Consensus Building Group considering single cordon and a motorway network charge.</a:t>
            </a:r>
            <a:endParaRPr b="0" lang="en-US" sz="12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F356-9827-486B-80E7-B752F526A6ED}"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143000" y="685800"/>
            <a:ext cx="4572000" cy="3429000"/>
          </a:xfrm>
          <a:prstGeom prst="rect">
            <a:avLst/>
          </a:prstGeom>
          <a:ln w="0">
            <a:noFill/>
          </a:ln>
        </p:spPr>
      </p:sp>
      <p:sp>
        <p:nvSpPr>
          <p:cNvPr id="2578"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equity angles </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focus on vertical equity.</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argument is that inequality by now is at such a level that it is relevant to a huge number of policy area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half of people have 5% of the wealth.</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between median and average income is widening.</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we use LCI, QES, LEED, weekly hourly rates somewhere between 63-77% earn less than the average wage.</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income of the bottom half remained static in real terms between 1998 and 2010.</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on high incomes paying most of the income tax – because they get most of the income! Circular argument.</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2.20 paid out say 10 times a week is incidental for some people and meaningful cost for others.</a:t>
            </a:r>
            <a:endParaRPr b="0" lang="en-US" sz="1200" spc="-1" strike="noStrike">
              <a:solidFill>
                <a:srgbClr val="000000"/>
              </a:solidFill>
              <a:latin typeface="Calibri"/>
            </a:endParaRPr>
          </a:p>
        </p:txBody>
      </p:sp>
      <p:sp>
        <p:nvSpPr>
          <p:cNvPr id="2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B657-F22E-4006-9311-C1F575043A2C}"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1143000" y="685800"/>
            <a:ext cx="4572000" cy="3429000"/>
          </a:xfrm>
          <a:prstGeom prst="rect">
            <a:avLst/>
          </a:prstGeom>
          <a:ln w="0">
            <a:noFill/>
          </a:ln>
        </p:spPr>
      </p:sp>
      <p:sp>
        <p:nvSpPr>
          <p:cNvPr id="2581" name="PlaceHolder 2"/>
          <p:cNvSpPr>
            <a:spLocks noGrp="1"/>
          </p:cNvSpPr>
          <p:nvPr>
            <p:ph type="body"/>
          </p:nvPr>
        </p:nvSpPr>
        <p:spPr>
          <a:xfrm>
            <a:off x="476280" y="406728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relatively high levels of car ownership with more 0.58 cars per person in 2005 and even lowest decile households average one car and have a higher proportion of income on transport cost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sall and Kelly argue that trips for work, education (school trips often in peak morning time), hospital appointments, sport and cultural participation, connection with family members, and so on are examples where people have limited flexibility.</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London congestion charge there are some exclusions but they would not extend them to low paid workers such as cleaners travelling at unsocial hours as it was thought the employer should pay. Yeah right!</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K a petrol tax is already regressive, but depending on the method used, additional charging impacts negatively on low income users. John Walker from Royal Automobile Club quotes numerous studies arguing that road pricing less regressive than tax but also cites studies showing hardship for a proportion of low income car user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believe that one of the strongest arguments against charging is that it leads to social exclusion and separation. The rich not only have the flash houses and nice cars and send their kids to the private schools but they also have their ‘own’ roads (or lanes at least). This literally cements greater division in our society. I believe there are high costs of less social cohesion. Literature on well-being, social exclusion and transport disadvantage. Transport crucial for participation. Cordon could create a ‘gated city’ effect.</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second order effects as new motorways cause greater dispersion making public transport less  viable. Location of firms for example. Business costs, inflation? Major employment impacts over time.</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iversion of traffic to avoid charging can impact negatively on some communities.</a:t>
            </a:r>
            <a:endParaRPr b="0" lang="en-US" sz="12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DF5C-100C-4C5D-B1F9-6761F8332315}"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143000" y="685800"/>
            <a:ext cx="4572000" cy="3429000"/>
          </a:xfrm>
          <a:prstGeom prst="rect">
            <a:avLst/>
          </a:prstGeom>
          <a:ln w="0">
            <a:noFill/>
          </a:ln>
        </p:spPr>
      </p:sp>
      <p:sp>
        <p:nvSpPr>
          <p:cNvPr id="2584"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hing suspect about welfare analysis that uses gross disparity of income to calculate  relative costs of time  and justify charging on that basi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here there is say a mixed funding model someone could be most aggrieved if tax payer funding is used for a road, plus tolls and the person can feel excluded even though they contributed via taxe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can rise steeply – in London started in 2003 at £5 but was £8 by 2005.</a:t>
            </a:r>
            <a:endParaRPr b="0" lang="en-US" sz="12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959C-9C09-4F4D-81D1-749265D27DE0}"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PlaceHolder 1"/>
          <p:cNvSpPr>
            <a:spLocks noGrp="1"/>
          </p:cNvSpPr>
          <p:nvPr>
            <p:ph type="sldImg"/>
          </p:nvPr>
        </p:nvSpPr>
        <p:spPr>
          <a:xfrm>
            <a:off x="1143000" y="685800"/>
            <a:ext cx="4572000" cy="3429000"/>
          </a:xfrm>
          <a:prstGeom prst="rect">
            <a:avLst/>
          </a:prstGeom>
          <a:ln w="0">
            <a:noFill/>
          </a:ln>
        </p:spPr>
      </p:sp>
      <p:sp>
        <p:nvSpPr>
          <p:cNvPr id="2587"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transport infrastructure projects are fraught with risk and given the cost of borrowing cheaper and the  risks around lower usage than anticipated alongside high sunk costs it is better for the Government to carry those risks.</a:t>
            </a:r>
            <a:endParaRPr b="0" lang="en-US" sz="12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argument is that to the extent that charging options provide a basis to proceed, then we automatically enter a world where the approach to risk changes and projects go ahead earlier than otherwise or in any case.</a:t>
            </a:r>
            <a:endParaRPr b="0" lang="en-US" sz="1200" spc="-1" strike="noStrike">
              <a:solidFill>
                <a:srgbClr val="000000"/>
              </a:solidFill>
              <a:latin typeface="Calibri"/>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AC27-E10D-43FC-A048-3D13F973A93A}"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analysis of toll roads in Australia (Peter Davidson) found that the modeling had been poor with many roads attracting half their projected volumes and this was due to ‘biased analysis’.</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one writing about the Cross City Tunnel in 2009 said “outside peak hour, a trip through the tunnel can verge on the hallucinogenic. It is as if you are the last motorist in the world racing along a gleaming neon –lit tunnel like a kid in a video-game parlour until the unnerving apparition of another motorist jolts the senses. This is a fine bit of engineering but as a business proposition it went bust long ago”.</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y banked on 90,000 vehicles a day but the result was a third of that.</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isConnections predicted 135,000 trips a day rising to 291,000 in 2026 but was 66,000 a day in October last year.</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p to 60 percent of toll revenue can be used to pay for revenue collection – deadweight loss.</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London Congestion Scheme costs are 42% of revenue. Another UK study by Dept for Transport modeled anywhere between 25 and 64%.</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chel Alexander – Editor of the Intellectual Conservative is strongly critical of toll roads and quotes disasters such as the Big Dig project in Massachusetts. She claims that there are very high transaction costs and most of the revenue goes to the operator. She was also concerned about privacy issues with greater surveillance. </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the level of charge can reflect  higher cost of private finance.</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sk transfer through subsidies, underwriting revenue streams, </a:t>
            </a:r>
            <a:endParaRPr b="0" lang="en-US" sz="11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idence that congestion is shifted rather than reduced.</a:t>
            </a:r>
            <a:endParaRPr b="0" lang="en-US" sz="1100" spc="-1" strike="noStrike">
              <a:solidFill>
                <a:srgbClr val="000000"/>
              </a:solidFill>
              <a:latin typeface="Calibri"/>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B5E9-A9F3-4C55-810A-FCF42AA2479A}" type="slidenum">
              <a:rPr b="0" lang="en-N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D27F7-6844-40DE-9E6B-8E9E6A5A5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830B-6B5E-402E-B3C6-6E31592E5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05BC4-F9B9-480E-9002-89E5DB251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A102B7-3D12-4E86-9945-AF74BA0A49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DDB068-0238-4031-B9EF-9C13DF5FAE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D3BA1-E732-49B7-B735-6C842CA9CB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1E9D28-5A2D-41F5-B731-6575F24C5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0D8037-F8DE-469B-9D70-EDEAC5459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7655BD-8A33-476C-9D0A-B7B320CEDF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A0049-4012-4EC4-9E6C-B959BF217F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9327F-AF35-4613-AE5D-F4499220E6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6F5195-8A0F-4E84-B6AB-D8454350A0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7D00-5BAC-47C9-BF1B-03DD29AE6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28E86D-68A3-4AF8-BD10-14275B0E8E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C6A1C9-A193-4C85-9D66-060FA7D375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98D884-EF3F-42E2-8837-77196F5E1E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601617-E55C-4B5A-94F1-2D8DEF4C92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B3D643-0297-4E2B-A8E2-6A07CA6136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5812CA-C306-451F-961C-7705800872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CE1531-9A95-450D-A6DC-A87BDF0C65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BC25D9-0D47-4CD9-98B8-F407FA9D61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07C616-A0EE-4191-9D36-D013AEB38C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6A9065-27A7-4E58-B0DD-690C535361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EE5F6-B2DE-4032-AE7E-5D6041450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82D86C-7F73-461E-894F-52D510F732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BCD7E5-8341-4F4F-8C64-51401B3E6D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5AE5F8-B974-4BF9-BA8E-33C3E9C5A8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B3C67D-F9CA-4097-B415-FA83525EB8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C2DB36-9C3F-4C62-B31D-05AC238715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E132B7-D23C-4287-A06E-428032BBFE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B69F3A-0868-44B1-ACF1-9972213998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A36249-0991-406A-B703-CF8F2F98A1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E5EC49-FF04-45E4-A1DB-7437B6EFBE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E8FC8-9561-435F-AB9C-A665EA9811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906B9-C35C-4451-B0D0-3922506FF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1A7EA2-1DCC-44D9-BECE-82C6998F92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DB9143-C2D3-4C06-B84C-1E84905E88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8C28E9-E034-4A55-B281-5C410F20D2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215CAC-10EA-42E5-A862-9530A6EF33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5973A2-EB39-49A1-966F-93A8624F92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202BAB-6FEA-4B48-8E9C-ACD16F34CE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3E6080-F183-483B-AB02-FF318E35A6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BD9C1E-C673-4CE1-AB65-D1B2044876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5FF21C-C958-4FB2-9C15-F141F3193C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9E3801-7480-41B0-A164-7625E7D276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682AB-E5F6-42C9-AC06-9DB6B93BB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832375-891D-49D6-B19C-628041D104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2FC12E-B266-4BDE-A576-46BE1FCDB8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54C773-0148-4235-87BC-AD7C8B1B16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4F1D66-01ED-46B2-9F15-73ECF579BD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839EB8-D273-4AD0-9733-4B12C13BD5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24B262D-3602-4767-8341-A330DE3545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876798-1C22-462B-88CD-B89580BBC3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D58BCC-E377-4B4A-B9F7-5F8E563974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4329C3-0567-4A63-B3B2-AA54382453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A590AD-D1AC-4635-A86E-14EF4D5D1C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2F0BA-B26B-4796-85D0-4665332F2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2166F5-03DE-4217-BB00-4106021708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1E3BDF-B91F-4E03-BE55-991B86C215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9F8BF8-F080-4971-AEDD-CE9BBF1877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E087D1-42DE-408D-B592-841205061E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985E0E-34DF-4CA4-A484-97A5A4B8F4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CF09AD3-DF84-4BAA-A4DF-820ABB5E3C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39417D-D8BB-45AC-9E04-DD88034F33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EDBB06-5B0A-404E-9B94-AE96ADE63BE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322197-9109-4D5C-AECD-6B5A30D9A8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D574B2-FFF8-4AF8-AE2B-81123E0132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C8424-A39B-451A-9365-BAE24FD8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A92C5A-EFFF-482E-8C78-BA465B8348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CFE5AD-561B-4273-95C8-7E98F4C378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68CF9A-DD97-4143-B5DF-096A9814B8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296FF8-9F37-4394-8005-9147651682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1E4856-70F2-40C9-ABD7-801E919585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45826E-A68F-4378-BCC5-31C9F1EA2A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B122B1-CEA2-445F-8C10-EDD2C26CBA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871B79D-547D-4555-868C-3A4A9CAEF25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919C80-295A-424A-A396-DA1E5598E61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CEE3BF1-997C-49B8-A227-298689656A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7EC4A-95B6-4872-B54E-B05126AF2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5CBB56-09D8-45E3-A39A-115D73A28C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F07571-7527-48E0-AC42-A04CC07BB0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D00416-2C39-447D-AD40-66AB44D296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D96BAF-A70A-4E90-B709-50B32F3472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FD81DD-F69A-4D62-932E-9B6A7FCB0D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0EF2F7-6D7F-4A0A-98BA-A9BDC954F4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833C1F-7671-4B16-B241-9CF2511E1A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B9E606B-9DB3-44DE-88B5-0A4707C318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86A66A-AD99-4A3F-9583-E59F9BFD7C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419BB5-0803-43C1-ACAB-9A5AEFF91E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89AC2-C0B8-44F9-8525-57DAFCC5B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D740A74-936D-4802-BE85-273ABA10003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614642-7F24-40E4-97DD-F0472D36FF8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F18F90-ABD2-4121-9280-6C9E69E23F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4A144F-C1C0-44FE-BCED-82D8596B1F9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2025C6-5BA8-4909-9E20-09AD61B307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5C8368-BAA8-473E-9575-76F244F91D1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378466-E2B7-4D4D-B4D3-1839965951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8E7B26-DC5C-41DF-83F2-55F63FA25C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D0F584-9DD2-4C58-9E28-DED99C2C00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F16D15-FDAD-4F0A-97F5-51FA95DE36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169BB-8B68-4E84-AB4F-1491B4F3D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8CF7CF-95B6-47B8-9D67-768F1F7866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E48A9A9-DC6B-43AF-82BB-18AE54087B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710F32E-6E02-4F4E-9EDF-4D0F9B1373E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1508AB4-5B1C-41A3-AD27-9B193EE5365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9CE089-6617-4AA6-89DB-228AC1298C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445EC6-ACD1-43BF-8608-9F1832464C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4DA7E68-2601-413A-8980-83B5B43D90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660C75-F387-47F4-AC59-B80756BF7C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7702F09-3542-4A45-A50F-6C2C0CEF78A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7B82CA-DFCB-41B2-BBA5-FE0FCD3699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880D-C8F6-4156-B52F-01E9885B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B5A0E-A696-4BBD-8CC1-1C7C704F7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276B53-77D7-4F2B-9759-F16832F027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BD49D4-39F9-4D40-A563-AB165EEF21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38A84B-D59A-4FCF-9CEC-376AB49D24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6ECF707-D271-4FCE-A756-D5EC95E10D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D61C1C0-775B-4276-8ED1-15706A05705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36C53CC-814F-40DD-BEC2-3EB88B6F8AD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3C650A6-72C8-40D4-8F75-7467FDFEDB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E12C82-58A0-4E2B-8372-9E7ED76696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E437026-4E17-453A-9019-B2FD79EE01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8F5BD8-9D4C-4FAC-9750-C7B6DF5E08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01323-5327-473C-BB77-438E8049B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46771F-5A8E-4B6D-AFBC-A79B2704A47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06C6690-85C2-4FDC-96A3-4B3FC53887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AF1961-D918-4AC8-A714-F2D61FEB7F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86C966-6DC3-48E7-968E-EA765DF05E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F15925-C2F5-4879-BB31-A2B4B34DD75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6E7831C-9455-427C-AC56-5B259F82D25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1483B69-A837-4CBD-992A-5633DA8D3AC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EB77B58-4F56-4752-A746-6104921C192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DC8DD30-B9C6-4035-B926-C17963B0BD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B9D47A-812A-47A1-8BBB-A110A32280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D7B46-2753-4C6C-BB9D-13F875E09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54F71EB-B692-4444-B918-F3A50CDD47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924A792-8620-4C22-BE36-5AD2654A48A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7F1B35A-EEF1-4689-9190-E9053FBC99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7F56F1-F67A-4A65-8104-C03EA9893C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9D6B16-2694-44B5-B32A-59C7857C2B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999AB0-648E-47AD-BB8F-A33AB653B8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6A086D-A506-47E1-8287-C928EDC4FDC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0C52521-AC6C-4BF0-8217-AC4073274C5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A87DC2C-582F-4107-8BDF-DDD3239D891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5CA25E7-EA59-4CB1-B7CE-B6E67CC67C2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7AE17-7445-4D72-98DD-48529ECEC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AE8F321-3466-43BE-B6A7-5F586B834F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5C7699-D3F1-475B-B35A-A2E5B70996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F8D19D-7A71-45CA-8252-AD61CDBD85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7E7ABF-0ED2-410D-A612-242D404424F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32C7806-794E-42A8-B69C-3530FDB2AC1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D5EEE7A-97EA-475A-AA6A-FE830121AC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09C9800-C4FC-4E5A-AF63-4AE418F1F2C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ACF931-C0D2-4B0D-9814-BE0EBF240F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E25C7B6-8C98-4D62-8396-C95A5F1A70F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6E0C57C-1ABB-496F-B215-D92236461A2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48BCA-BCE8-41B2-A87D-983967C10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3E44190-A28E-474B-A7D4-37F5B3EBEDD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D5CEB4B-7F00-44B9-8631-8495411AA01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0FF62C-2890-40B0-840B-DED6341C20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F7BA6BF-7A15-4254-95B4-4B0FD3B50B9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C50FA7A-DC40-4816-9DCF-E91BB17B745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B94BD3-2563-4E9E-8F9C-C84BF88657C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1D1E095-4965-4B1A-BA45-1F480C9E581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610F38B-856C-49B8-BC4A-376E5F90F41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162EBB9-EAC7-47A3-9944-C43830BAA1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AD94B2C-ED27-4799-B9A0-3FEC6A939F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B61D31-ABA3-4403-B18B-E1D9E72831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3B549D6-265D-4F44-98BF-978B695373E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799C6C0-A256-465C-9AFC-6A5806813F2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81B4FA5-D9A6-4712-B6F1-283832B93C0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94B1E98-1577-4BC8-B396-8C21193E7B0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C6FE6A4-A303-41E6-A31C-0C56A998674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477D4F-7BC4-480B-AC8B-1AE72316258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715C99A-432D-4DF2-827B-51291D7B560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86A717-A8BB-43B3-B5E7-81499F9DB8D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B7A013-2065-4C13-9A08-B448ED76F01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3F2986-B37E-4DBD-9A15-ACCF7010FBE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186CC-FDA4-4D81-9AC7-F4E242ED9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86F9CA-43EC-4CD5-A732-ADADD56F9AA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AFD75A-B610-4350-922E-2108E9DCDB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C48D6C-5AB5-49DB-AE05-D7BD99278C2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9FBC3F8-5F23-4D48-811C-E7310D73744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11D43B4-0419-47DD-A5EA-42AE4983C45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B7DF969-4BF0-4255-9C1B-E3285A24E9F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C23C174-121B-4718-A865-55183000C20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4A2DFD4-A0B3-4379-910C-8C7381227FA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36CC265-0868-4CB4-8297-073FD84910C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AAB914D-941A-4C07-A599-E72A724EA7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3D10D-CCE4-434E-AEF7-F6F18A6C4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F38BAF4-DD3E-463D-B56E-CEF8B341D5E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D680A26-7626-4DE7-A86A-0DAF409ACC3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4CBEC3-444A-4108-8BCF-7DC38D6FAD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86163CC-5B3F-4FFF-B4DE-09AADAF741D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D63715E-D0DD-48A8-A5A0-77DF2FEAE61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EDF0530-BD31-42E8-B90F-E4FC76DEB6F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86401C4-AD63-404E-A5E2-F61A9B041E6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4DFB1A7-B95F-4B46-944C-8C84BDA5BA9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F8CD5B-AB8A-444B-BE41-5868455857B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F16B5C1-EA49-476F-8367-10AF1C5F29A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D6445-591F-456E-A1BA-B9A1AF7DD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7646492-745E-47F1-A27D-EAAE64D4E52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99911FC-F111-4673-AE2F-30280BD09B6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225EC1C-3A08-469A-8F4D-EFB754FD696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5B39F1-E347-49E4-A52F-F05DA60C31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1F6313-9AF2-4A19-B114-D6801C57218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48597D-6AB8-4364-B600-3860C6D3CF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292FCCE-1EAA-47CC-B830-49EF718E2CA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D70A270-4D3F-462D-A426-1D07FBF2DB9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028878E-DA2E-43CF-9747-12B190C893D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5BE0C99-4B6B-4E03-AD57-B67E1AA9969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89C550-9BF3-4B2C-8095-A39181F55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996BB73-D161-47FE-B359-BD79BCE4FA3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8ECDE3-B47F-4935-9A5C-03FB370DDC2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3133B4D-0E00-4E64-829D-D310C57E179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593DF35-9E69-4FAD-832B-358FD5E2AB3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9BA5360-995E-44BA-9DD1-30C9A4A572A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03FCD4-C46D-4770-B5DC-16AE6105F4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6D4DF20-1D88-4A32-9E70-DBA6FFB5E9B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ED248B7-1535-45EE-B28A-6CAC3B9BE4E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3929CA7-322F-47D0-9F26-3C5A4B6F9C4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A03B69F-01E9-4D80-87D7-350E19A155F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3112-110B-4D09-A5A6-391DEC329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7C23E-416C-4AE2-A5CC-44165E7BF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925FF75-5907-4E63-A9AE-6F7C8FAABEF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07E1C65-1636-4CBB-918F-A2D706623D4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49BEB6C-4DE4-4B7D-9BC5-9D98268A6CA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83929F4-72C4-4EBE-9BFB-E9B11AADEFF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B2B88A6-161B-42C2-BB83-9A00FDF6A00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B393500-E6A2-45A6-BC7E-DAA298B4FD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DCBC9CD-157A-46D1-9E5B-6DBF2FBA65A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4D04BF8-1473-419D-A4EB-BBAFA391ACD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A22186C-74A0-4D61-A313-2D818EDC576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FC4EF9F-DF63-4A4C-A37D-0A1AFD82BC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EEC91-4861-4BB9-AD82-DD0B5F35F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30A1158-B4CD-4EEE-9651-DCDAE49A11B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CB31707-F844-413C-B805-7390BA5183E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9FE8FEE-3668-4652-98DD-6F9DA6C7F18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81102A9-6F7F-43B5-9FD4-AF318F31EA9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4A714C3-2CC1-4BCB-8377-0FBA704D120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6CE181F-0BB9-4E32-9F7B-A00F6167422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F110D91-2704-4DDD-868D-78E9E69D9A1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2249316-88AE-4BE0-BD72-8F43965BCFA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172CDF9-EB4B-4F2D-BB3C-E6AF0205D21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59DD092-03A6-40BB-AA59-B7BF8CF611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92ECE-93F3-4FED-8B53-6ABAE8D5D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9A354F0-B032-4189-B6D4-5188E6CB68E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C4D19A5-3EAB-45FF-93D1-756267191DC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0CFF145-E5ED-432B-8A05-04120E5A0D1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726FB94-AABE-4496-8B62-1EF503EA4EC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29042D3-7E75-4A8B-A90D-F6793D9009D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FD3D562-D8CA-4F70-9C40-EE83CC1759E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004EDBF-31B6-4429-8D01-344A6D79850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88992ED-3AE6-468E-8F5D-94D1D64725A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21ABD16-2CDE-40D9-8096-2FCDEB91634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695701B-B3A7-4B5A-9D29-034E6DA058B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686DB-2481-4B22-A8F3-6609F29AB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F8AD3B7-3DBB-4328-9D70-F19A803C63E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7827354-15A4-4CF6-B87A-4E68EC9D910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7D8C78F-2467-43C5-8829-D54FC1F6448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8F59110-6591-4A5A-901E-6F70F5F2C61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7B3FDDF-70EF-4C0B-8DEC-4BB86F04696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8EEE44D-CD42-4C12-BB32-FCE0288CA44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411FE68-2143-4D20-9AD0-8A00EF92B1F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E926A4E-B412-4CAF-A66F-97F16DC256F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74D92B4-FC1A-4033-A864-F0B29265A9F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311EC6B-33DE-455F-BBAF-B3AD9C37686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1AB307-F34E-4DF1-8CDF-4FEE83F25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8B2628F-156C-421E-8171-19EEB8D7EC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72E9748-73A1-4B81-AA54-FD125BBD5A8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CC57806-0CB0-411B-9E90-EEBC575BB2D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088D156-60E3-4BFD-A0F0-B8C8FACC509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BB376F0-197C-4EA3-B0E2-0005516EA01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9FAAEF5-2316-4DCC-885C-4C216F4D508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35A25AF-0885-44D7-B910-E181EE78C10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9A378E6-4F41-4BE7-87AF-30ACD3C2B4F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3BD1AC5-2B78-4290-8773-B2C9E6BB681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DEBF37D-3B80-463A-B08F-BEABDDDA376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F2A1BE-F1B7-42C3-AC15-17E7EF35A4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6106020-DDAA-4BDB-BDBE-95D12360290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4D7193-6780-422F-BA8A-EDFAC96C7D7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6A31AFB-5097-41CE-860D-AB6671D3487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1CD69F4-304F-4792-9293-DD10E42A654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5E24EBA-2B7D-4659-AF7F-26711F442BD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0CED637-2D0B-41EB-8D5D-533DF15BF6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1F670A4-63E5-4FAB-9B59-40EC9D91283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29022F5-E525-4865-8D65-97C6CFEB117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ECA1432-0E8C-4F17-AFBA-FFD2F6D4123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266FF87-A44D-495E-952A-BB623273E7F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B4673-660E-43D9-A12D-6801280FEE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59E87DC-37AE-431C-8EB1-0138C325D07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F93808E-1861-49D2-8676-CDB679FBAA6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966ED69-522C-4221-84BA-0529353B6BB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44DC302-AA3F-4167-9087-9A71A14088B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CEDA9D4-D2F1-4E0F-A54C-52C8B1620D2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18A9323-A84F-48AA-83C6-010F8181431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A179AF7-10BE-4D5F-B95F-5FC07D427EB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7A2BA8C-9140-472C-AF58-52285DE1DF4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2A98BDF-F6D6-40B8-A1F4-959E37B5FCC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C8CEB63-D24E-4808-B7D3-3F1229AFFD4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C0850-0FCD-44FD-9CDC-D9E1B691F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7961BBE-3533-490B-90D7-DD0DE5B6230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200AEE2-239F-4DD8-B844-7E831F269D4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BE6D61A-9A3B-4270-BB06-C5CCD016F53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0F02714-9E64-4AD5-A343-1752CE99088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1ADFE2B-93F2-4C75-836F-3E16D5ECEDC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B09CA72-90E5-4B60-91B9-0F5957E8922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C72502E-9688-4FBB-A257-C5A46CE66FE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D2392BC-C4E1-45C9-9AF2-99BBCE93E14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9A06796-D260-4E79-8744-549951A4063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DDCB90-1B92-49D3-B8B1-13603C6CEC9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6CE02-9EA2-469B-9429-10F315DAB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D165CE0-2D30-47BA-A691-112E2064CBF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20D2446-6E1E-4BA9-8D7F-8B65EB7C553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70111C4-C18C-469E-B6FA-32C5A49AFA7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481FCF0-A1BC-4759-B541-91AA007D7D8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819D74B-09C7-4C60-9D4F-2FD24F280C0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5E623DE-E2BC-486E-8ABB-23CED5E7491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DF6C57B-C1D6-4D67-B3C8-BA90E3D1CFB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0115107-119D-4210-B6A2-6E17EF2CF49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F5E7812-E610-4736-810C-D8656AB998A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C0FF2ED-B1E9-43E0-8D6F-3E4DCB29FA6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0DED3-993B-4048-B7C7-D2DE20F0B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FEA1ECB-9E3D-4F0A-A6E4-84D19C02053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EB9AC82-3BE3-4C0D-B489-2D64F5B8305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FD5A049-0879-4156-8CE7-29E69A927F4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FEB51AF-3051-40D1-B09B-1DE38905479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9511E60-3E4E-4C8E-AC14-7712BD75FB3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BAA6D53-B5F4-4F8B-8E55-A66AF3F0571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923E8F0-E8FE-4D2A-B7C2-0C00D7E908D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2E8A65E-2382-45C1-AB8E-984BA7F2CCC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5F0A7F0-6F3A-4E96-B37D-550B920B551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D508C4E-F6C5-4045-A7DA-AC662F66173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0B0C-FC82-4C97-96A8-8B5E255E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9364C-8F86-49AC-825A-2B8A7D984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763D1D5-02FC-4662-8807-E5EA2957D93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38B4B4D-9BF1-498C-95B6-9F0DD85BD09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32459E8-9324-4536-8477-3CD72AD4743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2A93044-7459-46D2-A80F-3181E75098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47ACC10-000A-424E-9B85-5C3A26CC204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934DFD2-ED76-48BE-980B-FD2B8D84D41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E999319-A17E-49B8-A6CC-07F8721CE4F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DBB5684-E081-4A83-949D-37E4659A220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D729C17-905F-4757-BF40-0EB5E1C1CF5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3531C45-0604-4D32-8A62-C408C5B3027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AD8EA-429D-4C19-AF08-F6E08F996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1631F2C-A4DF-4376-9511-429BE9CE3DE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185F156-21F4-4BBA-B38D-E9AE53E6BD0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F184B9B-DB77-4D0D-A490-260C7D09711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9A1F145-9DB8-4BD6-A21E-33D85875C8D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28AC7FA-744B-49F6-A6AE-D21D88287F6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2561AAB-1A5D-4D8B-B109-9F872634ADA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CC14814-616F-483C-8C44-1E3365A845E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455CF4D-F8CA-4462-A2B5-FF1DF6AE873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CB885E5-D1A9-4EA5-B4D7-45E02BF25DA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E24E461-CA75-4E4A-B7BB-1ADE888A0A6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761DA-966D-4DBF-BEAF-89F08B582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15710B3-D940-4C6A-95D2-257B582F41B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D82F00D-EF44-4281-B7AD-3D3533E2933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16B67C1-1986-48B9-B552-E66DB7BB6A3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3D853E9-C6E1-4609-A205-BD3D0ED6F13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834B44F-33E6-4E30-A909-9EF86FAFB99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FE7C5DC-3CA6-4E22-889F-FBBD44BB1B7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59B4165-AD05-44BF-87E0-61386946C77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5AAE6AC-3E77-466B-A4B4-1A75F8ED8D0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E8E7F43-3AD3-486B-88D1-C04D6F7C31F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6E8905E-1D94-45F8-A21F-E984E9F7641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A3B39-AB67-4B86-9A39-59E247B3D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E7142D0-336C-4A6F-8125-8E0010F8065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EE16820-B261-486E-BF8F-3173CF95BA3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28B7F88-F715-4BE3-8B85-239228FF35C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2546FC4-E966-427C-8A1E-646C40C8831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FD1E718-6C79-497B-9F27-9D931B2A326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216EF4E-92B3-42B7-AA83-B1909340BD1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3AECF3D-F505-429E-B9CE-820ACB52446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C3845FF-203C-447D-8C9B-DE6E539E82B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89F458E-5F12-45D8-9603-527A182A1D0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B3D5191-0E64-4203-8D87-75F03C7E086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5A199-9577-4AC4-8E8D-351265775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7FAAF9E-E79A-491E-A857-64BD10E52F4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6255621-4985-4035-9D55-36D2EC65BCD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CD63B02-9C2E-4336-8AF1-376C6E1F55F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5E55E02-CDB2-4204-8669-E87A2BDA718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7CD9436-4454-4580-A8A9-0DFB8274093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DE5E270-AF81-47E8-B782-8969CB3C629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52F9EF8-0292-4483-82CD-F16F9AF474F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D3219FD-71E3-491E-8C52-62DFC1082C0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D37756F-D9F0-483A-9E6D-134759523D4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A01B3A0-BDDB-404F-AF2D-002A08040C0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F10D1-3C1F-4E39-A799-61D92B365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28940CB-5D3A-40DC-AF81-EA766897CB1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9E8C5F7-02F5-4F69-A593-EFF5EEE2B0C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9DC8483-F3F0-485A-BFD4-7D6BB752361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57EB4A0-5ACD-4CCC-8F94-6D7D26F0729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3F2CBEA-F0DC-4AF6-A382-55A2FFAB0FB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65CAA5C7-C3A2-4F61-8FA4-CF910F24E0B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B2EB13BB-81D3-40EA-B120-7312F20BD95A}"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35446A6-1D9F-4D5B-BC21-04FA71BCC7C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F450E2E-C2E3-441E-B5F0-872A11C5DAF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1FFF971-171F-4F02-A51A-90CC7D9FBAB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B0AD0-A22A-4367-A43F-EC0E7293C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A4A0FFF-0C57-413C-A9DF-499B521A21E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9DF6C56-E53D-4ACF-A1E7-A59DD532A2B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9CDF392-9D45-42D6-A9F6-7C2A7AE1759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D363E88-3D6E-45B6-8B43-668C0BF61BA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5B1C1B7-69C4-40A9-A5F6-41D73FEE22F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FB3D3DF-1A24-4E6C-907A-CFFAD64E11C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358466B-9A6E-47A6-9350-4FC1BB7F8EB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F8F1656-AC5B-4AA2-8C03-FBE481E7CEC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2C84B6B4-9BF4-4EEF-8F61-A51ACDFBFE16}"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CB998A3-B189-4047-A30D-6B1BC18726C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09E35-4B4F-4067-BF6C-58CAAA91D1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3DECDA4-D4A5-475B-9FAD-ECF1E7E026E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65D7BD1-431D-4894-B2C5-08B4E63B802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437BDA9-7F62-46BA-9125-7EAC7420BEC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FD14333-C54D-4717-BCB9-9E78AD2783D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F8B7BA3-75BC-4CE2-ABA7-C6B986BE69F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568F5C8-3083-4D67-85FE-AD3A1149F56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DA0AA8A-E468-4BFB-8D1F-A95CA323F41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6865777-0254-406B-A07D-AF1C7DFE531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D5F694C-644E-47C8-8B79-48F7D7AF7F2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4594122-5882-4363-802A-BD8BD25E3CF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88F9B9-17BB-4B91-9ED3-CECF4564E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1C7979D-A9CB-4A95-B1C9-D592F1EA2EC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D49067F-9B76-4EB5-AA94-D710D7BCD3D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A5DF501-2BCF-4350-9FB5-DE4E662F94A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C16351A-F6FE-48DC-909E-48F30DB91E2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E2BBA2A-A6BD-414D-996E-2B3B8998CA7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E63D065-9103-41E7-B9F4-F7587C36A1E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5EFBA87-6CCC-4706-B849-05AEC9B04D3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C2F7115-817D-4111-9DB9-5B8207C3654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A146003-77D1-460B-8342-46648CF82CB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AE53EE4-60EA-4977-987E-2611C144FC7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FFF770-366C-47DA-A871-24818F632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2C13BB1-1B34-472F-9B4C-1DCEDAA789C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C2CB2BD4-8BD2-420D-99C1-C5C12D14AD2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B7A7628-5FC0-436D-B2DB-1BBF932A0B2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472BA8A-53DD-44F7-8C40-C5544C4656E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4AC915D-EEB6-4425-8D1C-04D21119A32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E0923B9-CF8E-4FCE-A036-5995F3967DE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59141CE-9389-4C6F-BBA2-E66E74A853D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87489F3-0706-443D-9C76-70EA98572D2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3B1DCB1-B187-433A-A042-BE1BEE3F704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EDF22B9-ED0C-4FA1-90C6-7684CD5EE47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7D770-22E2-491A-B343-FC2590377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B6513-AD6C-4E31-9959-C41BE8617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A7819C7-171C-4A00-8C82-B13E5AC069B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3D8BA81-EC14-4C99-A28F-6F87C174CC2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262C5C6-DB95-44B0-BAAA-3A0610BFD17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22E5903-211D-4FC1-AF92-E526CD6CB68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4C1E027-893B-4AB9-9568-DA9D2081274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C62D91F-596F-4DCD-8A06-0DF5DBF7D45A}"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B8D60FA-A381-4A40-9498-EF4666F3DA4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6137D79-BBC5-4548-A8C9-C11A6783EE8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B546531-F93E-4614-9803-BC298E163FC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E6D42C8-65C7-4322-971D-00727C42092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E771B-11A4-4730-80B9-42E63C696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3960066-7941-433C-9DE5-BA85D42F866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EE0A256-9A88-42A8-9F14-D2C255B7F59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96A77F5-1CED-4921-AAC4-7EB24229674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CA9C133-55DE-4DB9-85BF-C0BA161B335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66DEBF3-6869-4424-8704-8B5BDA7ABA2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F93FD151-8181-4836-80E7-8A0C2DD56BF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7DE79B39-689D-43DA-A8E1-DFFEC875CA8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C09BBE5-00AF-44A9-AAB3-0449E69A94B3}"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A874050-396E-49F5-A12B-50B7593B71D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C8322C5-0F19-40DE-9A28-C9B5FD83598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745F7-3019-4E34-BC52-FC3707332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1E27CC8-0341-4D77-B85E-E155DB544930}"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A2821DA-7FBC-4518-BD79-475E9E68442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BAD0EC6-10A1-4D2F-9DEE-AC388A5E757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F099479-E309-4BFC-ABEA-31DAFB5398A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8B826F2-7A56-4497-B0DC-BB48FC756E7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547A4DD-2568-4272-BE1E-79D974B7C53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823E00E-2A4F-42FA-9381-1528A2F998D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80E7B99-D7DF-4018-963F-206938D5125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3BA4F56C-F2CC-4148-994B-3743C77D7405}"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7769E4AE-C2BA-4BAB-A969-C3CFA01796A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4D120-010B-445F-9036-728362AB9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11BD04D-D67E-4CB5-B4F1-0AC95CD424E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8F40043-B4F6-4B0E-84F5-83B71CA33CF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9A3F4E2-1781-4F17-9B53-2EDA1FF8CEF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7AB0013-9717-45D6-893D-A8306ED31CF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E3C0216-5E0F-4A51-9D31-8E84CB99FF3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2CAEE36-410F-40D5-8781-B44F73DEB72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E1B38E9-13F9-4465-AA0E-4257C603EA5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4E5A243-A0A1-4469-A669-25EDDCFE446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7AA7B9B-6E39-4DA0-80B4-1C9EA52D10D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36A4237E-6CF6-48C2-9D22-B33AF186EA6C}"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603A5-0F18-417B-BA9A-6A3C3EFB6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F8CECD1-F8B9-4D5A-9400-48DC5424763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8A73AE8E-5705-4EB1-B84E-B3515FF77C93}"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22234CC-2793-4F8E-81C5-31F839B438E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457F654-9FFC-41BD-A0A1-3B1D98EFCAA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6063411-8A0B-4E61-AD4D-4515D58B97A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43E415E-D90C-4D40-BD49-3C6AD1901F2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007266B-6C9B-4C27-A5EF-FEA7B44A795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2670960-13D5-4372-8D92-7C90313B5AC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8EF7F12-1A6C-49ED-A4CD-45E71FC58EB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86C6AA5-84BE-4BE7-B259-D541E69A9A9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3AB97-0E2D-49A1-857C-E5F5EEDC3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D2DD727-2BB5-4A8A-B83C-611726887F2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1189A497-71A3-4FEA-AFC2-D03BCF509AA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B3C6850-C9B4-4FE4-8928-36BCADE0099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C58EB3FF-D928-4407-B992-23F3D934DD5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7AF9AA4-57A0-425D-977F-0157FE8603C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618F7B3-5B6C-41E8-BF4C-5CDACF7777E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07FBB39-1493-4119-91D8-7EB12BC2DD2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E9C1284-A1B5-46A3-B8B0-385374F591D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26EBE6B-2A35-446B-9A73-B58B56C3D26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AFABBCD-2735-46D4-ADC7-DE6B4B50540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2091C-C9AF-4B79-9474-C9A6F76B3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68E0CC2-5ABF-464D-AEE8-07E55617F10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B3015E1-5456-429B-A4E5-69C2782CA10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EFC9C80-9FD0-4B7C-AD5C-7648556F55D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CFA8432-0C21-4ADE-9D65-9A3EA926101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C1458208-0100-41E6-B317-0C046EB8604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FBBF189-2E72-4D43-B59A-AFEC91D2C2C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4A06FD6-ED9D-45F9-B2D7-B35A3EC4D7B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AFB65B6-6D36-41AF-98D0-ED0FC342C99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8C0EA6B-2078-4D12-96BA-30D12E2CCF8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0CBA88E-99C6-4267-96FD-D74D2199B8D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DF47F-4E51-481E-B8B4-8DB6E1FFF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8E266DF-FD15-400A-88B6-D5441BCBD96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7629379-2D77-49DB-928A-50F4CDDAB71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CF40334-90E2-4157-84D1-12AE0FBB141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189868D-12EF-4616-AC73-EC1D427B50D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0650A18-6EB2-41D7-B903-08D2AB33165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B6AB9CA1-AEA2-49A6-A60A-0517E4F02ED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BBE7E941-15C2-48AF-9320-BEC65187FF3F}"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AAB46CDE-53F6-4875-8242-D0D948FB56A1}"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264AE6A3-06EA-467C-A655-2CB896462E8A}"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8274895-0D09-4484-8654-13B23F29A51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18609-6763-4B39-A843-801C6E9DC0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71B0B562-B948-401C-B825-13261BF8876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6A27AF12-F8EE-466F-87F1-34954216D8E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C143CFD-E3CE-45FB-B92B-FA7FC726CA3A}"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E7BF838-360E-4387-80FD-F002AC0979B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2AF4516-C29D-476D-ABE1-ADCC35BBA55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538F418-00CA-4FCE-9FE6-A3C466474B9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47B5D752-F245-4EC7-A9AF-F8611F58AC3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4082F092-F7FB-4C62-A7E2-4704AD4DEE25}"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59E3F30-7A28-4F88-96A7-A2B02E3A9597}"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8FE9ADA1-87CB-48B4-A2A6-3ADD91D94C1D}"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FFE26-46CD-47E1-8A5B-0F7D8B14AB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A257F23-44A6-4B4C-B887-D4EFA4EFEA06}"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56D4713-F58D-416F-A519-1332B69766B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05B738B-6E5C-4F00-AD74-0A3DEC563606}"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CD2939D-FB4E-42E9-94D2-47131A3BCCD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A1F31D87-8279-4A1C-A9E0-6040DFE9AE5B}"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2A390CEF-0331-4074-AE1C-83A52661C57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549F7F4-2E0F-463A-AE02-8D434E4D96F0}"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D6F09D7-3988-41AE-A6E1-65819F90FD6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06DE6E2D-0E98-4B68-B890-B246BAE4B6AB}"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DC8DD6C7-E3EB-4158-82BD-5938DE11BF67}"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189E1-3EA7-4D4E-9C7F-FFDF12D7E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6999D0-C6BB-4253-93FC-0FCFDE17D8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4B4C7739-4E8A-45B8-AC86-C055B386CA4D}"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6E895C5D-6680-4A83-A18E-8DE5D39A1E2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4BBEE60B-6878-4CDC-BAD5-9430BCAE39F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ACF2AA1-6123-4E3B-A269-BC872394D78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DE798A2-94B1-4386-9124-83D63170911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EE4AB954-7D6A-420B-AC06-FD4F74BC3B0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4B4ECB75-E2BB-4625-B26B-4742167D031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52FA271-6624-443F-8187-BE8ED88C93A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F376650-CD96-4313-9ED3-A6387FF0547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F8569AE-FA0F-4048-BFFC-50C23776B99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B43359-01F5-4D3C-BB8E-8803083D1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7F15053-C1E7-4197-A1CA-1081E07E116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59C3109E-41E2-4E1B-A959-B70915AF921D}"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DB18A76B-CFBC-4B40-9B23-7A70B47A01DA}"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594BFF16-00C0-4D2B-99A6-4A201448E379}"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6A578DBF-749D-45D1-BFF4-D25FB5F9C558}"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2F980E0A-0675-4928-B7D5-32542D4A4A21}"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599158F-D367-4F9B-9A27-339BF4050DC1}"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5378E529-2918-4AB3-BDBD-EE3C051B52D9}"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C553996-6649-45AB-A437-2BB745F5FFF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08F9ED8-D804-4E69-8E40-A4BA75D25A8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E5BE6-2C7B-41C2-B602-7FD045B59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82DFDC4-9844-426C-975A-AC62E21AB49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ECB11E2B-FDB1-4EB6-9DC7-02DE4F1634A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92332A06-0406-4EA2-8A0C-1689A97D934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D2FBF86C-FCEC-480D-8C22-10D9F9CC67D0}"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EBE089DD-F0D6-4068-8019-5355361B69DD}"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AA92ABE9-7BD8-44E5-95F6-EAEDD3A50ABD}"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B03046C-349F-464A-8A18-C2DAFB185E4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7C8AD148-AA57-4D18-B989-8CA9787C582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11BBE24-6CD8-43BA-AAA3-C76E2BA84A0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9B6AD08-8E2D-4A8C-8007-260C6A0712B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0E6C1-C990-426D-9771-A98CFFDCB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7CB493E-FBC3-4BFA-A01A-9773F162EDA3}"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ECBFFF28-3AD1-4BBB-ABAB-F696403BFA74}"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0725CCCA-11FC-411F-8659-DBABCA7471C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3CD5E31-D52B-444C-BF52-AA0BFE5E2CE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ED744081-6B97-471C-AED4-A460783D617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E73241DF-CAB3-48A0-AFB4-E3ABF335FEA8}"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C25EA949-4AFC-4CFC-8F0F-D163A06BA252}"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57868FBB-99DD-4083-99E6-D3F27A2D3647}"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4406F91D-42F1-435D-85F4-C2C27FE240FA}"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C7D1A97A-8A19-47B1-9B21-7CBB8863503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01EDA-A880-45A6-9A38-C1562FAF2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668AD877-3378-450E-B560-BD1A5985CC1C}"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1D64378-5261-4B5F-AD52-6D35114F6F3E}"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001CF716-97DB-4098-A480-590D2A1CBB13}"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BBAAB1D-CA9A-4EC6-9648-F3ABEC9D5FA2}"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C789C3D-F2AA-4531-BE76-B4D6641E2A3F}"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B8FA55F-B1D8-4C2B-8504-CAD6F42C9B17}"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CC051B4-709E-49B3-9A55-4746DB68166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F8673F7F-1906-425F-9E40-02603E86D00E}"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D20A7F7E-22AA-45DD-AC1D-FAC6D97E52BF}"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9929F604-FAEA-45D5-BEEB-75F78364847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AE6D3-B47A-4B26-9ECB-7DC08855D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2E72477-3500-4189-8DBD-1A214C52D0C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FF99E1BD-503E-42A4-B4B0-B61573C9C7F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A29438F6-3495-4FDB-AB98-702E212BDCB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E6423DD0-4BFD-4898-B7D8-243A618D5DF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3E8A1515-B496-4417-AEB9-1FB0548B0CBC}"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4E8430D-5744-4C08-B631-EB2BAB85BB0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6CF175B-32E2-4C07-80BC-614EE05A002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183779B2-CE55-4EE0-A6D7-210375239BA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725AC8F5-1B6E-4872-8CE8-DB4202E8BBD0}"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44D6A67A-7C81-49A8-B86A-2655119F0201}"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190A8-14B6-4C57-B42E-D8926DD9E3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D3716012-5045-43D8-A14F-8C0C50D23440}"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3F1C8B0C-6FEF-47F3-ADA9-E8ECB423C945}"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94C451D-ED8D-4518-95E4-0C0D85A9B843}"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32C3880B-DDFD-4A1C-B6FE-C93CBB8C9B72}"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D4890A0B-438D-4BBD-9D37-067E17E9C5FA}"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9960A561-0537-491D-9555-02F022505FC4}"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5B5C73F-1250-4870-90A1-513EFAC5A33F}"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0E91DE6-9CD6-452F-810F-4C7DD0BDF944}"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9D383BBB-0C92-4795-9EEF-6D841EB0241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3C4B1DB-0F28-4AA9-A4BE-EA071747B61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46AB6-9CA3-480F-9E67-C92EF6BC7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C6A4C3D5-8CAE-433B-9B52-52F878A9849F}"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EC01BB2A-7A9B-43BB-BE47-BE10139EAD57}"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9939E7E6-8CFC-4E31-932E-F92CC4234F80}"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791598CB-8CF1-4DBF-A103-D10E86C8CB4F}"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03BDE02E-7AEA-4923-BB64-5D68650514C1}"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CF3A32C-673A-4E5A-B7A5-67DCDB0785A9}"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B4669E4-D6BB-4642-9AE2-4779F6C7853D}"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2007A107-8012-4F2C-8416-FE1A23B2BA4B}"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C3DA743C-11EE-484F-9E36-3EF47D602E3D}"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92FE288-72CA-4983-A5AB-B40EC7C7D82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7E271-F2B3-46E0-A7B3-D68BE72C1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1ABDE8A-E00E-49FD-A9AE-2451BF7BF07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B21CF094-9965-42ED-82AA-9CF89EDFC20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4083A85B-1470-4941-AE36-7CA71B6016A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5EF6BF03-8B87-4379-AD27-82B5BCCFFA33}"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1A5EF1DD-D09B-4A3A-8979-16FFD30C52E6}"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096A6D63-DED1-405D-986F-81B9937F4DC5}"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8540A28F-4B8A-4319-AAD3-B8A12766EE95}"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73A3525B-D4F2-4C19-9AE8-81CADA293B7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3A7358FB-90A4-45D7-B666-5B06090EE481}"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2E5CCC5F-2C49-4B7A-8285-D3A76795AE8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51D0C-F85A-44F3-997F-8A181A2AB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72E09E18-D36D-42CC-969F-97D6DA69655C}"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8ECB650-39FB-47BC-A3FC-19177A4C50A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759914E0-0EC5-4D67-A768-55F1DAA6789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2C637BE8-3BEE-4A11-BC6C-F927C844B02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0E8057A1-FEB9-4B5F-B553-5DEAF0125072}"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36D8FF06-92DB-431A-A7BD-912094AFA401}"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DE6D99DE-3A2A-42C7-858A-F40AE2F6BA29}"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48A9950E-039A-4B95-86A0-75BE3346592C}"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DFC0AA26-9F5C-48A9-9934-BEF6482A8D47}"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314246C0-8B07-4EB6-B822-05D673C862E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0720-C384-4100-BE4D-D156199DA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134AB7-2A92-4E59-96BE-B5EE3E66B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CA754ACC-BB64-48B0-8E64-E7161EAE662D}"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572E1D1D-B1B5-4412-9B54-5B11912C9AB5}"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E3B31834-90EF-49BD-86D0-1CB3F9D10B0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4A950317-C1B4-4C50-B9FC-33CDE3A49F3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EEB99DF5-EA31-4374-AE32-8C4D78DDFE1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0445C6C-471E-4818-BEE1-07731114D0B2}"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31D41610-0EA8-4286-955F-4D0DFA478CB2}"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2A544AA4-6950-4E80-9282-F763BBEED0C1}"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FE06916B-FDBE-4892-8A2D-49725FD1F6C9}"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77F202A4-FA99-4524-83B4-0E923E9B842E}"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580279-51CE-486C-A949-F90719237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9784AEB3-3D4B-4560-992D-02B90B2C5ACF}"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76041328-4841-488E-8978-AADB8E4A8A7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3024459D-B3EA-4CF5-9018-10D906C0BAEB}"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4923B0CD-F23F-42C2-A5DF-58CEA050D3E1}"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EB0A01ED-37EE-42D0-9D11-8DCE3F672DE1}"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3FA44DC-3757-4DCE-A637-9E24110CF9F0}"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FA91604A-A099-4B3B-AD20-DEA844E9A4F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8244888-8BEA-4B87-A1B8-E8A2D02ECB3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587A827-AF87-4BB7-97A6-901D97FF5660}"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F09D48B2-8CD3-40A7-BC2E-8B20D14A6EF2}"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3A416-4C53-4248-9B6A-34D0907C9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6D5CA7DA-782D-4717-A5BD-2105E16FD0C5}"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7D82AC47-84C8-4432-96B8-13807E15A33E}"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91EDC043-5499-4B0C-A3C0-172E3333FE82}"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6F30B9E4-6773-4A1F-9263-93CC47DCB5A9}"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A77CACFE-E4CC-45E9-945F-E57CB7850E5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30F7282-8890-413F-B74C-EBB84FE74556}"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CBF252C3-2B8D-4B94-ADA3-C491B97B129C}"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6B19AD84-EF93-45CE-9BDF-B907E071360E}"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FDFE01A0-75F1-4149-9EDA-D1319F9CDA8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3EA554D-6F96-411C-8AEE-AE2C9670D163}"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19FDFF-464F-4165-A6BE-E7A9904EB2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6FB78D0E-B3F9-4FF2-8D05-72A5569A6E30}"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71EE08E2-60CB-41CD-A612-483F533D61B8}"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FAF9DF47-6389-4756-97E3-EE19D63EB0EC}"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B0E53-DC01-4593-A723-52E6A9A494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AE12C2-1BF7-4C46-BE11-5682B9493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19D2A3-A987-426E-979E-3A918845C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F1DCC4-6A42-4203-BDC5-F795A66BD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DA858A-A61D-443C-B343-3C5549E54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46670-1506-4D33-A2E3-0B983DDB4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A8575-E5C8-4D7C-AB5C-179745E6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4C109-0F98-46E7-9BF2-E720A0E5F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87E3C-D74B-45E5-B406-4FB72A6D8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F96A4E-9C19-4395-8EFE-5E5E59416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F0CBBB-95E7-4BDB-ADAB-6F797B6D48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F3A90B-6C6A-4281-81D9-343E5C7B7E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D936E-C6BB-4B10-B5EB-933E813A1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C6917-C1D1-469C-9167-B703B358FA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908287-2946-4EA8-A14D-8111153475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EF449-FC29-40FD-B046-192E4BA33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4D7FAB-CBFD-45CB-83E7-FC5D2100B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589D6-3ED2-4E00-8879-BDDAC2348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19F29-5D48-4F10-BB8C-E3657720F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742AB-0AE1-4C56-8D93-A98503322B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F8E3D-5288-4E64-8B45-48DCF166E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7BCEB-FF35-4C6B-A2E7-3953E22E9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D1010-7B6A-4461-817A-17DF8AB40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FA00A0-2A4C-4018-90DA-A6EEF77283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FFC6F7-F013-481F-A2CC-773FC741DE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1C96E8-A925-4ED8-9F7D-3B0E3A86B7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5BFEB3-D588-4A29-93AD-223979F49B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0BD43A-F6F0-4793-B96D-8E337362C3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4F50-8D76-431C-AF4A-3D67D1904A06}"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EAC4-D138-4932-829E-0B36CDF700C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F93F-E968-40AD-A4BA-A3AA6C0847BE}"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AE1D-9A26-4524-B24F-E5B0DE50D3C5}"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B84C-85F9-4EFA-844B-C581BF8E9F5F}"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E01D-9310-4252-AD9A-D4D3D6F61D7A}"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1C3A-FE82-427F-B29D-FEE2C39C295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549C-14BC-421C-A2FA-FC1C31934832}"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6EC9-22DA-43A9-B088-5B047EE5C6AF}"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700D-EBE9-41E7-97EF-F90FF76B9391}"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18FA-1278-4936-8EC8-E07ADF0089B1}"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3F37-26E2-4D5E-A8C8-AC901F015965}"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3268-B6E1-4C65-9FBA-5ABC29189269}"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A33A-A090-4109-BF12-BF68254B90FE}"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9497-1BC4-4EB3-8768-691D67B77F23}"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9D01-B7AC-40A9-B8D5-5D22E481947D}"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C4F2-CE91-4E31-8BFD-77E157438EA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3AB5-DFBA-4D6A-B340-384966D7C4C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2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FCE7-B5B2-4B95-8A8A-31FA3AD3261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69"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3D23-5B3A-4FDA-B611-7C7CE8919214}"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110"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5469-8280-4644-8ACA-49DD89E20D18}"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151"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AE4C-5411-4303-996B-AC0CCDA3E0F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E22A-B718-4787-900E-1FDCDC569E3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192"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1E13-1529-48AC-A135-6CCF5AB37B1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33"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C296-B54E-4558-915E-B892CF4A5CC0}"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74"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F4B9-0CB3-41A6-AB72-F5B8D1413926}"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315"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9AD6-78D2-4F69-8C4B-395D3CE284E4}"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356"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F22B-841B-49C6-974E-27B02476CE29}"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397"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575D-E095-40E1-ADFF-2865A7DA7B6D}"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38"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52A0-505A-4107-8558-8989BA757FD2}"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8"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79"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0"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3E01-FAF4-495D-9E19-5249B5DAE026}"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9"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520"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741B-AAC1-40FC-A641-94152F9444B3}"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0"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561"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2"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051D-26D8-4B55-A04E-8F7C5A8ACF9E}"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B8CF-B3D1-415C-AD6C-8A6CA2AA2E9E}"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02"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3"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E5BF-0989-438B-A955-8F32CFB9760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2"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43"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4"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83B7-D362-4484-AD6A-EA5F9FD1BAD4}"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3"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84"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5"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FDD8-E4E0-431A-BA6F-7B8B0DA8BBF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4"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25"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6"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D589-41B3-4128-8388-CA232C9CF32D}"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66"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7"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54D8-E4B5-40F0-ADAE-2F2C2596D3F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6"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807"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8"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B12F-05A2-4EA8-B4B6-F6AC4A8E0026}"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7"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848"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9"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6474-AE43-4B30-B97E-E3B41FB5CD63}"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8"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889"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0"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EC34-6315-4614-8A0D-562F6913B411}"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9"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30"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1"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F71D-22C1-43DC-9883-34A550CCAA0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0"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1"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2"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8093-631B-484C-B63E-F065531119BA}"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E4BE-6705-45D4-9EB9-9370A27B20D9}"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1"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12"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3"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CE21-A019-4613-9DCA-CFF8DE366521}"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2"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53"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4"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C76A-3EE8-4642-A04A-BB66E20A0AA6}"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3"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94"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5"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7CB3-33ED-46CB-A9E3-9DC566A277C4}"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4"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135"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6"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8FF9-16AD-4D83-A655-ED1685735BDA}"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5"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176"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7"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EDD1-F094-4CF2-8963-FFB2346A2623}"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6"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217"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8"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1440-4DCB-4BD7-8DBA-1A04BE95BB92}"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7"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258"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9"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6639-1BCB-4C50-B44C-998C6664E221}"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8"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299"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0"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105D-D950-4F67-830B-1AAA15C3950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9"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340"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1"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3A44-0E97-48D1-902C-06F4C6ACF380}"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80"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381"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2"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BB3C-55BF-4E99-A8CB-A2554B6C44B6}"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5F50-0557-4A2E-949E-DF96C6C475C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1"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22"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3"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35E7-5439-4EC9-BB8C-B169D5DE1F8C}"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62"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63"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4"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0822-C522-46AF-BC1F-2556CEB85162}"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8D78-08F7-4D0B-A4B4-3046ED88E890}"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076B-274F-4B1E-9D60-E5F7F29C6EB8}"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FBEA-9AA9-4752-B587-FFB67F96BB83}"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49.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1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Title 1"/>
          <p:cNvSpPr/>
          <p:nvPr/>
        </p:nvSpPr>
        <p:spPr>
          <a:xfrm>
            <a:off x="773280" y="620640"/>
            <a:ext cx="8064360" cy="5112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Arial"/>
              </a:rPr>
              <a:t>THE PUBLIC FINANCE DEBATES:</a:t>
            </a:r>
            <a:endParaRPr b="0" lang="en-US" sz="2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000000"/>
                </a:solidFill>
                <a:latin typeface="Georgia"/>
              </a:rPr>
              <a:t>“</a:t>
            </a:r>
            <a:r>
              <a:rPr b="0" lang="en-NZ" sz="3700" spc="-1" strike="noStrike">
                <a:solidFill>
                  <a:srgbClr val="000000"/>
                </a:solidFill>
                <a:latin typeface="Georgia"/>
              </a:rPr>
              <a:t>It’s time…New Zealand extended charging for public infrastructure”</a:t>
            </a:r>
            <a:endParaRPr b="0" lang="en-US" sz="37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pponent:</a:t>
            </a:r>
            <a:endParaRPr b="0" lang="en-US" sz="24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ter Conway</a:t>
            </a:r>
            <a:endParaRPr b="0" lang="en-US" sz="34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509" name="Picture 2" descr=""/>
          <p:cNvPicPr/>
          <p:nvPr/>
        </p:nvPicPr>
        <p:blipFill>
          <a:blip r:embed="rId1"/>
          <a:stretch/>
        </p:blipFill>
        <p:spPr>
          <a:xfrm>
            <a:off x="773280" y="5934240"/>
            <a:ext cx="2790720" cy="803160"/>
          </a:xfrm>
          <a:prstGeom prst="rect">
            <a:avLst/>
          </a:prstGeom>
          <a:ln w="0">
            <a:noFill/>
          </a:ln>
        </p:spPr>
      </p:pic>
      <p:pic>
        <p:nvPicPr>
          <p:cNvPr id="2510" name="Picture 2" descr="M:\COMT-Marketing\_Marketing Jobs 2012\Faculty of Commerce and Admin (FCA)\FCA0124 - Chair of Public Finance\iStock_000000191794Large_croppedport.jpg"/>
          <p:cNvPicPr/>
          <p:nvPr/>
        </p:nvPicPr>
        <p:blipFill>
          <a:blip r:embed="rId2"/>
          <a:srcRect l="31055" t="0" r="25654" b="0"/>
          <a:stretch/>
        </p:blipFill>
        <p:spPr>
          <a:xfrm>
            <a:off x="-36360" y="-7920"/>
            <a:ext cx="750600" cy="6885000"/>
          </a:xfrm>
          <a:prstGeom prst="rect">
            <a:avLst/>
          </a:prstGeom>
          <a:ln w="0">
            <a:noFill/>
          </a:ln>
        </p:spPr>
      </p:pic>
      <p:pic>
        <p:nvPicPr>
          <p:cNvPr id="2511" name="Picture 2" descr=""/>
          <p:cNvPicPr/>
          <p:nvPr/>
        </p:nvPicPr>
        <p:blipFill>
          <a:blip r:embed="rId3"/>
          <a:stretch/>
        </p:blipFill>
        <p:spPr>
          <a:xfrm>
            <a:off x="7562880" y="6093000"/>
            <a:ext cx="1299960" cy="550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5"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46"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Northern Gateway</a:t>
            </a:r>
            <a:endParaRPr b="0" lang="en-US" sz="4400" spc="-1" strike="noStrike">
              <a:solidFill>
                <a:srgbClr val="000000"/>
              </a:solidFill>
              <a:latin typeface="Calibri"/>
            </a:endParaRPr>
          </a:p>
        </p:txBody>
      </p:sp>
      <p:sp>
        <p:nvSpPr>
          <p:cNvPr id="2547"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uilt 10 years earlier because borrowed $158 million based on anticipated toll reven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ices rises in March 2012 were described by NZTA as ‘regrett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ansaction costs and write off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8"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9"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50"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Mitigation</a:t>
            </a:r>
            <a:endParaRPr b="0" lang="en-US" sz="4400" spc="-1" strike="noStrike">
              <a:solidFill>
                <a:srgbClr val="000000"/>
              </a:solidFill>
              <a:latin typeface="Calibri"/>
            </a:endParaRPr>
          </a:p>
        </p:txBody>
      </p:sp>
      <p:sp>
        <p:nvSpPr>
          <p:cNvPr id="2551" name=""/>
          <p:cNvSpPr txBox="1"/>
          <p:nvPr/>
        </p:nvSpPr>
        <p:spPr>
          <a:xfrm>
            <a:off x="1042920" y="1600200"/>
            <a:ext cx="7788240" cy="44416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Free quota, discounts, peak time on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rs with 3 or more people exemp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egmentation (community travel passes as in community health cards), special category exemp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lternative roa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mproved public transport op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any different charging metho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rgeted revenue redistribution</a:t>
            </a:r>
            <a:endParaRPr b="0" lang="en-US" sz="3000" spc="-1" strike="noStrike">
              <a:solidFill>
                <a:srgbClr val="000000"/>
              </a:solidFill>
              <a:latin typeface="Calibri"/>
            </a:endParaRPr>
          </a:p>
        </p:txBody>
      </p:sp>
      <p:sp>
        <p:nvSpPr>
          <p:cNvPr id="2552"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3"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54"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Alternatives</a:t>
            </a:r>
            <a:endParaRPr b="0" lang="en-US" sz="4400" spc="-1" strike="noStrike">
              <a:solidFill>
                <a:srgbClr val="000000"/>
              </a:solidFill>
              <a:latin typeface="Calibri"/>
            </a:endParaRPr>
          </a:p>
        </p:txBody>
      </p:sp>
      <p:sp>
        <p:nvSpPr>
          <p:cNvPr id="2555" name=""/>
          <p:cNvSpPr txBox="1"/>
          <p:nvPr/>
        </p:nvSpPr>
        <p:spPr>
          <a:xfrm>
            <a:off x="1042920" y="1600200"/>
            <a:ext cx="7788240" cy="444168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overnment – cost of capital lower</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velopment Funds </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additional time bound progressive tax </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ther taxes – CGT, land tax</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low public benefit then don’t do it</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ther drivers – housing, environment, climate change, density vs sprawl</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6"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7"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58"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Congestion Options</a:t>
            </a:r>
            <a:endParaRPr b="0" lang="en-US" sz="4400" spc="-1" strike="noStrike">
              <a:solidFill>
                <a:srgbClr val="000000"/>
              </a:solidFill>
              <a:latin typeface="Calibri"/>
            </a:endParaRPr>
          </a:p>
        </p:txBody>
      </p:sp>
      <p:sp>
        <p:nvSpPr>
          <p:cNvPr id="2559"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lusive lanes for public transpo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l time public transport lan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rking restri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e public transpo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ycling, walking</a:t>
            </a:r>
            <a:endParaRPr b="0" lang="en-US" sz="3200" spc="-1" strike="noStrike">
              <a:solidFill>
                <a:srgbClr val="000000"/>
              </a:solidFill>
              <a:latin typeface="Calibri"/>
            </a:endParaRPr>
          </a:p>
        </p:txBody>
      </p:sp>
      <p:sp>
        <p:nvSpPr>
          <p:cNvPr id="2560"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1"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62"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Conclusion</a:t>
            </a:r>
            <a:endParaRPr b="0" lang="en-US" sz="4400" spc="-1" strike="noStrike">
              <a:solidFill>
                <a:srgbClr val="000000"/>
              </a:solidFill>
              <a:latin typeface="Calibri"/>
            </a:endParaRPr>
          </a:p>
        </p:txBody>
      </p:sp>
      <p:sp>
        <p:nvSpPr>
          <p:cNvPr id="2563"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blic economic development goods best to be publicly fund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quity issues and social exclus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is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ther options available – funding and conges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additional charging then use more equitable op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4"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2"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13"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Key Points</a:t>
            </a:r>
            <a:endParaRPr b="0" lang="en-US" sz="4400" spc="-1" strike="noStrike">
              <a:solidFill>
                <a:srgbClr val="000000"/>
              </a:solidFill>
              <a:latin typeface="Calibri"/>
            </a:endParaRPr>
          </a:p>
        </p:txBody>
      </p:sp>
      <p:sp>
        <p:nvSpPr>
          <p:cNvPr id="2514"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eep the ‘public’ dimens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quity issu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mplementation Risk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itig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ternatives</a:t>
            </a:r>
            <a:endParaRPr b="0" lang="en-US" sz="3200" spc="-1" strike="noStrike">
              <a:solidFill>
                <a:srgbClr val="000000"/>
              </a:solidFill>
              <a:latin typeface="Calibri"/>
            </a:endParaRPr>
          </a:p>
        </p:txBody>
      </p:sp>
      <p:sp>
        <p:nvSpPr>
          <p:cNvPr id="2515"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6"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17"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Keep the ‘public’ dimension</a:t>
            </a:r>
            <a:endParaRPr b="0" lang="en-US" sz="4400" spc="-1" strike="noStrike">
              <a:solidFill>
                <a:srgbClr val="000000"/>
              </a:solidFill>
              <a:latin typeface="Calibri"/>
            </a:endParaRPr>
          </a:p>
        </p:txBody>
      </p:sp>
      <p:sp>
        <p:nvSpPr>
          <p:cNvPr id="2518" name=""/>
          <p:cNvSpPr txBox="1"/>
          <p:nvPr/>
        </p:nvSpPr>
        <p:spPr>
          <a:xfrm>
            <a:off x="1042920" y="1600200"/>
            <a:ext cx="7788240" cy="4441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frastructure underpins economic, social and environmental develop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lative benefits to individuals vary with single and multiple dimensions of infra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arging undermines the rationale for ‘public infra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gh degree non-excludability, non-rivalr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9"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0"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Charging Options</a:t>
            </a:r>
            <a:endParaRPr b="0" lang="en-US" sz="4400" spc="-1" strike="noStrike">
              <a:solidFill>
                <a:srgbClr val="000000"/>
              </a:solidFill>
              <a:latin typeface="Calibri"/>
            </a:endParaRPr>
          </a:p>
        </p:txBody>
      </p:sp>
      <p:sp>
        <p:nvSpPr>
          <p:cNvPr id="2522" name=""/>
          <p:cNvSpPr txBox="1"/>
          <p:nvPr/>
        </p:nvSpPr>
        <p:spPr>
          <a:xfrm>
            <a:off x="900000" y="1773000"/>
            <a:ext cx="3595680" cy="43527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ll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ad pric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a charg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don charg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twork charge</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ll lan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uel tax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gh occupancy vehicle lan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3" name=""/>
          <p:cNvSpPr txBox="1"/>
          <p:nvPr/>
        </p:nvSpPr>
        <p:spPr>
          <a:xfrm>
            <a:off x="4647960" y="1773000"/>
            <a:ext cx="3956040" cy="4352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ea typeface="Arial"/>
              </a:rPr>
              <a:t>Road user charg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ea typeface="Arial"/>
              </a:rPr>
              <a:t>Parking charg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t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rgeted rat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ea typeface="Arial"/>
              </a:rPr>
              <a:t>Development contribu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rbon tax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4"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5"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26"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Equity</a:t>
            </a:r>
            <a:endParaRPr b="0" lang="en-US" sz="4400" spc="-1" strike="noStrike">
              <a:solidFill>
                <a:srgbClr val="000000"/>
              </a:solidFill>
              <a:latin typeface="Calibri"/>
            </a:endParaRPr>
          </a:p>
        </p:txBody>
      </p:sp>
      <p:sp>
        <p:nvSpPr>
          <p:cNvPr id="2527"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er pays implies consideration of homogeneity of us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ertical, horizontal…..con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ealth and income inequality a major iss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63-77% earn less than ‘average’ wa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Arial"/>
              </a:rPr>
              <a:t>New Zealand’s household income inequality is in the top third of the OEC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8"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9"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30"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Equity Concerns</a:t>
            </a:r>
            <a:endParaRPr b="0" lang="en-US" sz="4400" spc="-1" strike="noStrike">
              <a:solidFill>
                <a:srgbClr val="000000"/>
              </a:solidFill>
              <a:latin typeface="Calibri"/>
            </a:endParaRPr>
          </a:p>
        </p:txBody>
      </p:sp>
      <p:sp>
        <p:nvSpPr>
          <p:cNvPr id="2531"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Arial"/>
              </a:rPr>
              <a:t>High levels of vehicle ownershi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Arial"/>
              </a:rPr>
              <a:t>Already hypothecated charges - fuel excise, registration, licensing fees, road user char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Arial"/>
              </a:rPr>
              <a:t>Tolls regress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Arial"/>
              </a:rPr>
              <a:t>Lead to social exclus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spersion leads to less viability for public transpo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2"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3"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34"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Equity concerns…</a:t>
            </a:r>
            <a:endParaRPr b="0" lang="en-US" sz="4400" spc="-1" strike="noStrike">
              <a:solidFill>
                <a:srgbClr val="000000"/>
              </a:solidFill>
              <a:latin typeface="Calibri"/>
            </a:endParaRPr>
          </a:p>
        </p:txBody>
      </p:sp>
      <p:sp>
        <p:nvSpPr>
          <p:cNvPr id="2535"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atial mismatch – employment centres/homes as commuter costs r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pends where ‘poor’ people live and work relative to cord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t benefit to ‘wealthier’ drivers in one case 27 times those from poorest quartile because of relative value of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6"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7"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38"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Risks</a:t>
            </a:r>
            <a:endParaRPr b="0" lang="en-US" sz="4400" spc="-1" strike="noStrike">
              <a:solidFill>
                <a:srgbClr val="000000"/>
              </a:solidFill>
              <a:latin typeface="Calibri"/>
            </a:endParaRPr>
          </a:p>
        </p:txBody>
      </p:sp>
      <p:sp>
        <p:nvSpPr>
          <p:cNvPr id="2539"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ologic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nk cos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 suggest Government better placed to cope with risk, spread across many assets and long perio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0"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1" name="Picture 2" descr="M:\COMT-Marketing\_Marketing Jobs 2012\Faculty of Commerce and Admin (FCA)\FCA0124 - Chair of Public Finance\iStock_000000191794Large_croppedport.jpg"/>
          <p:cNvPicPr/>
          <p:nvPr/>
        </p:nvPicPr>
        <p:blipFill>
          <a:blip r:embed="rId1"/>
          <a:srcRect l="31055" t="0" r="25654" b="0"/>
          <a:stretch/>
        </p:blipFill>
        <p:spPr>
          <a:xfrm>
            <a:off x="-36360" y="0"/>
            <a:ext cx="750600" cy="6885000"/>
          </a:xfrm>
          <a:prstGeom prst="rect">
            <a:avLst/>
          </a:prstGeom>
          <a:ln w="0">
            <a:noFill/>
          </a:ln>
        </p:spPr>
      </p:pic>
      <p:sp>
        <p:nvSpPr>
          <p:cNvPr id="2542" name="PlaceHolder 1"/>
          <p:cNvSpPr>
            <a:spLocks noGrp="1"/>
          </p:cNvSpPr>
          <p:nvPr>
            <p:ph type="title"/>
          </p:nvPr>
        </p:nvSpPr>
        <p:spPr>
          <a:xfrm>
            <a:off x="1042920" y="274320"/>
            <a:ext cx="778824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Arial"/>
              </a:rPr>
              <a:t>Implementation Risks</a:t>
            </a:r>
            <a:endParaRPr b="0" lang="en-US" sz="4400" spc="-1" strike="noStrike">
              <a:solidFill>
                <a:srgbClr val="000000"/>
              </a:solidFill>
              <a:latin typeface="Calibri"/>
            </a:endParaRPr>
          </a:p>
        </p:txBody>
      </p:sp>
      <p:sp>
        <p:nvSpPr>
          <p:cNvPr id="2543" name=""/>
          <p:cNvSpPr txBox="1"/>
          <p:nvPr/>
        </p:nvSpPr>
        <p:spPr>
          <a:xfrm>
            <a:off x="1042920" y="1600200"/>
            <a:ext cx="7788240" cy="4441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vidence of heroic assumptions (BrisConnections) and ‘biased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ross City Tunnel Sydne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fe cycle issues, implementation and transaction cost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isk transfer, subsidies, renegoti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4" name="Title 1"/>
          <p:cNvSpPr/>
          <p:nvPr/>
        </p:nvSpPr>
        <p:spPr>
          <a:xfrm>
            <a:off x="4067280" y="6308640"/>
            <a:ext cx="5060880" cy="433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The VUW-GEN Public Finance Debate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Arial"/>
              </a:rPr>
              <a:t>November 12, 20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3:05:31Z</dcterms:created>
  <dc:creator>gracehe</dc:creator>
  <dc:description/>
  <dc:language>en-US</dc:language>
  <cp:lastModifiedBy>peter</cp:lastModifiedBy>
  <dcterms:modified xsi:type="dcterms:W3CDTF">2013-11-12T04:17:38Z</dcterms:modified>
  <cp:revision>103</cp:revision>
  <dc:subject/>
  <dc:title>Long term Fiscal Challenges Conference</dc:title>
</cp:coreProperties>
</file>